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B6E-BE3E-48CC-AEEA-5D9F974B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56E-96D7-419E-87DE-4E6ACF57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2C5A-02FD-4AA7-922A-8DCDF3F6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D78-B2B2-4B57-81EF-4E29876A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CC0-7067-452A-B919-9BE71A66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896-8494-4A80-A597-0EB525CB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E246-9061-475F-8BD2-403872A4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F15-DCA5-4893-B60A-3BC5F019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F88-C92C-4609-8692-B8157B9C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5BF-8712-4997-89D5-8EE29570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7A3-CE8D-4362-B659-97F7C692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16E-2284-4BB9-BF71-74C2D7CD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F136-967A-4900-8032-7B3352EC5AD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0" y="333360"/>
            <a:ext cx="4465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Monotype Corsiva"/>
              </a:rPr>
              <a:t>Земя,като една човешка дл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Monotype Corsiva"/>
              </a:rPr>
              <a:t>но по-голяма ти не си ми нуж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Monotype Corsiva"/>
              </a:rPr>
              <a:t>Щастлив съм аз,че твойта кръв е юж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Monotype Corsiva"/>
              </a:rPr>
              <a:t>че е от кремък твоят стар Балкан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4762440" cy="381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08720" y="2637000"/>
            <a:ext cx="3384360" cy="3887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65680" y="544032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аменни гъ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16000" y="155736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ом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08760" y="30780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Деветашката пещ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5373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03640" y="620640"/>
            <a:ext cx="4140360" cy="604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537372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ещерата Дух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04360" y="1341360"/>
            <a:ext cx="35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ещерата   Лед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464000" cy="5238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435640" y="1052640"/>
            <a:ext cx="3166920" cy="3600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23840" y="42372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8200" y="42372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магу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48200" y="4816440"/>
            <a:ext cx="21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Орлова ч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66720" y="53928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неж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752720" cy="50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35120" y="582444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Боянски водоп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859280" cy="5303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64000" y="549360"/>
            <a:ext cx="28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cc33"/>
                </a:solidFill>
                <a:latin typeface="Arial"/>
              </a:rPr>
              <a:t>скака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06400" y="615456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П е щ е р а т а  С ъ е в а   д у п к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580000" y="6165720"/>
            <a:ext cx="31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оходът Врат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19280" y="620640"/>
            <a:ext cx="568800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Земя,като една човешка дл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dddddd"/>
                </a:solidFill>
                <a:latin typeface="Monotype Corsiva"/>
              </a:rPr>
              <a:t>Но ти за мен си цяло мирозда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dddddd"/>
                </a:solidFill>
                <a:latin typeface="Monotype Corsiva"/>
              </a:rPr>
              <a:t>че аз те меря не на разтоя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dddddd"/>
                </a:solidFill>
                <a:latin typeface="Monotype Corsiva"/>
              </a:rPr>
              <a:t>а с обич, от която съм пия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4680000" cy="5184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591600" y="5950080"/>
            <a:ext cx="21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Байкушевата м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0880" y="6165720"/>
            <a:ext cx="21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айкушевата м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3456000" cy="504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9852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ековен ч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52240" y="326880"/>
            <a:ext cx="24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660033"/>
                </a:solidFill>
                <a:latin typeface="Arial"/>
              </a:rPr>
              <a:t>Златните мост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3860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5080" y="208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ито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03640" y="3068640"/>
            <a:ext cx="5940360" cy="378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94880" y="32846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транд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002000" y="27936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и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0360" y="27936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р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7236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52560" y="3510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род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08360" y="333360"/>
            <a:ext cx="30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Белоградчишки ск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08720" y="587700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Чудните мост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6:30:10Z</dcterms:created>
  <dc:creator>harry7</dc:creator>
  <dc:description/>
  <dc:language>en-US</dc:language>
  <cp:lastModifiedBy>harry7</cp:lastModifiedBy>
  <dcterms:modified xsi:type="dcterms:W3CDTF">2008-02-03T18:28:06Z</dcterms:modified>
  <cp:revision>18</cp:revision>
  <dc:subject/>
  <dc:title>Slide 1</dc:title>
</cp:coreProperties>
</file>